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4D8-93A6-48F8-8E96-61226997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C06-AC6A-49E0-90E5-9B7D31D3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083-E227-43A2-A1EB-CE52772A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C1D-0AEB-4ACE-B100-03A71A1D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1F2-0227-4DFE-956B-49033A42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78C-12F0-426A-A769-7D845417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B92-A88B-43BC-9A4A-0FB9B574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322-F57F-4D07-9812-B1D87224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8429-4143-40CF-91CD-C5AF041E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CAA-3723-4ED7-BA3A-F3D5F118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580-3A83-49C9-AD02-83C285DF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C16-CA11-4939-952B-E35AAAF4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A94D-FA93-46C4-AA37-FC3B2203C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39693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Ebene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Scro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Cruel in life cruel in dea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750640" y="3316680"/>
            <a:ext cx="3662280" cy="26668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lies Ebenezer Scroo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heart got the last La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I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Holly Winter</cp:lastModifiedBy>
  <dcterms:modified xsi:type="dcterms:W3CDTF">2011-12-01T22:22:35Z</dcterms:modified>
  <cp:revision>7</cp:revision>
  <dc:subject/>
  <dc:title>Slide 1</dc:title>
</cp:coreProperties>
</file>